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2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769-0195-4A91-B33B-1F01C570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C8E-8221-40FB-B818-717198C5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063-F799-4CA3-9555-0BE11268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E8F-FE48-48C8-8C26-69D787E1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2962-5D89-4679-883E-AC5769B2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E683-9173-439F-B576-433FF95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87AB-04B8-4BFE-B411-61DC1E0A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5F37-F1A2-4606-88C2-819542D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CCFC-2E81-4B50-B7E2-F5720C3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C990-F7F8-41B9-9E57-9736E68A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5CDA-84A6-4B21-9B91-9E329DF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789-7829-4BD5-8B55-DF3A078D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36A-968D-47FE-B3B3-805088E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7B67-FAB3-4CA4-B4AC-E4836AD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9DB2-ED4F-4F85-9890-6AA017C9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093-6BD5-4F04-BF0E-B67E7637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5D2-03D2-4764-831C-EF1E3080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2B2-A132-4A7E-8EED-C6DA930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7E9-4A5F-4C29-800C-A5596C27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18B-515A-4AE3-A8BF-2BB98028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514-C0C6-4754-BA14-5E3FE6A5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4B9-6563-458D-ADE7-DEED7DC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724-7373-486E-B629-0700406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F88-B38D-446E-8EEB-889DD2BC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950-4F34-4453-9CF5-38F7ED339678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965-EC21-4333-8AEC-3C02FABC3F89}" type="slidenum">
              <a:rPr b="0" lang="en-US" sz="1400" spc="-1" strike="noStrike">
                <a:solidFill>
                  <a:srgbClr val="ffff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Properties of Real  Numbers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lgebr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743200"/>
          <a:ext cx="7391520" cy="14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43200"/>
                    <a:ext cx="739152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666880"/>
          <a:ext cx="811368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666880"/>
                    <a:ext cx="81136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52480" y="3048120"/>
          <a:ext cx="5578560" cy="14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048120"/>
                    <a:ext cx="5578560" cy="14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2895480"/>
          <a:ext cx="8458200" cy="137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95480"/>
                    <a:ext cx="84582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90720" y="2590920"/>
          <a:ext cx="7385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385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932200" y="3282840"/>
          <a:ext cx="321948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2200" y="3282840"/>
                    <a:ext cx="32194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143000" y="2743200"/>
          <a:ext cx="7023240" cy="14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743200"/>
                    <a:ext cx="702324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22640" y="2666880"/>
          <a:ext cx="488628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2640" y="2666880"/>
                    <a:ext cx="488628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27160" y="3282840"/>
          <a:ext cx="502920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7160" y="3282840"/>
                    <a:ext cx="50292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93840" y="2614680"/>
          <a:ext cx="846108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2614680"/>
                    <a:ext cx="84610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Commut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655720" y="2417760"/>
          <a:ext cx="377064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55720" y="2417760"/>
                    <a:ext cx="37706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57200" y="3124080"/>
          <a:ext cx="665820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3124080"/>
                    <a:ext cx="665820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Multiplica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31800" y="2943360"/>
          <a:ext cx="6269040" cy="110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1800" y="2943360"/>
                    <a:ext cx="626904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970360" y="3282840"/>
          <a:ext cx="314136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360" y="3282840"/>
                    <a:ext cx="3141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Reflexive 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4080"/>
          <a:ext cx="8305560" cy="11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3055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ssociative Property of Addition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3200400"/>
          <a:ext cx="8332920" cy="10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00400"/>
                    <a:ext cx="83329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87520" y="3200400"/>
          <a:ext cx="8072280" cy="10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3200400"/>
                    <a:ext cx="8072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27280" y="3135240"/>
          <a:ext cx="579276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27280" y="3135240"/>
                    <a:ext cx="579276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38360" y="2417760"/>
          <a:ext cx="400680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38360" y="2417760"/>
                    <a:ext cx="400680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nvers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5520" y="2614680"/>
          <a:ext cx="839628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5520" y="2614680"/>
                    <a:ext cx="839628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Transitive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6400" y="3135240"/>
          <a:ext cx="709452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6400" y="3135240"/>
                    <a:ext cx="70945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Distribu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Symmetric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Proper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30480" y="2666880"/>
          <a:ext cx="507060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0480" y="2666880"/>
                    <a:ext cx="50706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Multiplica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84400" y="2943360"/>
          <a:ext cx="5162400" cy="110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4400" y="2943360"/>
                    <a:ext cx="5162400" cy="11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Additive 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Verdana"/>
              </a:rPr>
              <a:t>Identity</a:t>
            </a:r>
            <a:endParaRPr b="0" lang="en-US" sz="66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3:09:32Z</dcterms:created>
  <dc:creator>Parkland High School</dc:creator>
  <dc:description/>
  <dc:language>en-US</dc:language>
  <cp:lastModifiedBy>Parkland High School</cp:lastModifiedBy>
  <dcterms:modified xsi:type="dcterms:W3CDTF">2012-09-10T18:35:41Z</dcterms:modified>
  <cp:revision>6</cp:revision>
  <dc:subject/>
  <dc:title>Properties of Real  Numbers</dc:title>
</cp:coreProperties>
</file>